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18.wmf" ContentType="image/x-wmf"/>
  <Override PartName="/ppt/media/image1.png" ContentType="image/png"/>
  <Override PartName="/ppt/media/image17.wmf" ContentType="image/x-wmf"/>
  <Override PartName="/ppt/media/image15.jpeg" ContentType="image/jpeg"/>
  <Override PartName="/ppt/media/image16.wmf" ContentType="image/x-wmf"/>
  <Override PartName="/ppt/media/image14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10.jpeg" ContentType="image/jpeg"/>
  <Override PartName="/ppt/media/image8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1C8B-1044-4E4C-894A-D02E5BD2C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1F27-AE3D-428B-9A42-39EA87F1A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DF729-6425-4D49-9239-4C30FF8F1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6FB93-6276-4A11-A36F-DA6278643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686E9-510B-4755-8967-D01F18DE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E1BA-22B5-4C59-BFEB-9DCEE118F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E558-5327-433F-B1D3-9663EEFB3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F0977-12EE-455D-93F7-ADD4506F0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6E47-924B-4108-B750-CD35363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C35BC-D8FB-4D81-BE02-6629E4F4C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0C599-4A59-4268-AE4A-0558C7B65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AE6B-019E-4507-9AB3-56CAA9B40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2861F-77D6-4489-BA6F-351B700B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5B6D8-6D28-4F79-A586-81029370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8DB0-3402-4081-8A87-A99611EAC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F1E5C-5E2B-4C18-80B0-2A81F94D5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0E026-5F69-47C0-A90F-C02E40D02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D1DD7-B7DB-4843-B1FE-EB170ED1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307C8E-0C6F-4968-AD6D-3FA77EBC5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63DF94-EEAC-4925-9833-BB6063C86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5D759-BA11-4AEE-84E7-5D646A625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BB05B-1A1A-4685-9AA4-80C78CF8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8E6F-3B54-4720-8B6C-9F982CC4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AE3D6E-8D36-4154-B490-CD62BDA3F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D26814-34BB-4C43-A696-5FF9A276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E9591-CD9F-47DE-AA39-7FAF3381C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B51047-15F2-4C00-A2BE-2B224F66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9DD040-460D-4C66-96EF-A00360B5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28738-468C-4431-9CF6-4E0F8A204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CB710-44D3-4406-9011-451242E7A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B7BC4B-F263-4F49-BDFA-94C9A52A3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0FEB-8F05-449D-9079-A34DE903E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C7122-CE42-4138-B1F3-984A7E902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7DCF-A0FC-4A06-A249-4E0CE6CFB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9FBA9-DA6B-4655-AC30-B6D9D689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015B0-54F1-4E39-8B33-2B5D3D67D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BF5763-86AE-4729-9E92-7A68DD509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9CB94-E4D6-45A1-82B7-23A8D853C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77888-2090-4BC2-93CB-E56DED532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74603C-F7CF-43B7-A2EB-53DDF7E1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817A4E-5BA0-4BC0-99CC-4932AF2A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9DED6-6D88-4025-9B98-82E96B45D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1BD07-22A8-40C6-A403-2976AB807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FE2466-5611-4E2C-B647-2E7976B4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09EA-B1E0-449D-ABA2-119EC2D6F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FA3A0-8460-4A83-BC0C-FB71A81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512EDE-6985-4CFC-A024-911DEBDB3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797C3F-87E9-4512-9029-F948834F0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3CE51-0F7C-4649-98D6-D5A8EEDFA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5A1F9F-9D10-44BA-ABF1-FBDFF6C40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38BB4C-FF5E-42C1-8E5C-3A55B84C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B69CCA-1B6E-4C54-B394-C4572D07A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1FA38-1B85-48C4-9FD5-5E479ABFE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B1BE-BB75-4A58-93A6-83B164BB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0B70B0-DC58-42E5-A863-30B79A665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3E82-6E1A-4C19-9493-FF07B4783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1CD756-6E14-46B1-A469-3F63DFB99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FEAD45-F923-4473-8093-8267286A5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BDB747-9EF0-4448-926F-17D4F7E5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42013E-EE71-4BC3-A2A0-D52C55D1D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213992-1F5A-498B-A4BA-B640022F7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6FAD28-F652-4F31-9167-5460967FA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2437920" y="228240"/>
            <a:ext cx="6248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5342C3-52C1-4552-A6FA-8B1C11566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045FE2-7E65-4B09-8C90-2C2334322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407D-4989-4116-8BE2-E419A38C5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C2BDDF-4A3F-4343-8DE4-DB895D75A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D50F-FE1D-4A6D-9E20-277FA967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848193-7C3E-4677-8E69-873EB5B56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F208B4-F99F-428F-B0D0-9AB2020C6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55040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663240" y="228564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243792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455040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663240" y="4291560"/>
            <a:ext cx="201168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587645-B283-4DAD-80A1-A1AFC671A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40120" y="429156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C14-58B2-4B93-B838-FD8061E23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4379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640120" y="2285640"/>
            <a:ext cx="30492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2437920" y="4291560"/>
            <a:ext cx="62485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CDE3-1D03-4090-B0E6-2F6F5AF8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1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" name="Rectangle 6" descr=""/>
            <p:cNvPicPr/>
            <p:nvPr/>
          </p:nvPicPr>
          <p:blipFill>
            <a:blip r:embed="rId2"/>
            <a:stretch/>
          </p:blipFill>
          <p:spPr>
            <a:xfrm>
              <a:off x="437760" y="0"/>
              <a:ext cx="870624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7"/>
            <p:cNvSpPr/>
            <p:nvPr/>
          </p:nvSpPr>
          <p:spPr>
            <a:xfrm>
              <a:off x="0" y="5760"/>
              <a:ext cx="1825200" cy="685224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8"/>
            <p:cNvSpPr/>
            <p:nvPr/>
          </p:nvSpPr>
          <p:spPr>
            <a:xfrm>
              <a:off x="0" y="5760"/>
              <a:ext cx="182520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Oval 10"/>
            <p:cNvSpPr/>
            <p:nvPr/>
          </p:nvSpPr>
          <p:spPr>
            <a:xfrm>
              <a:off x="494280" y="424800"/>
              <a:ext cx="83628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D955-AA8A-406F-AE24-EA349B3A733A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1"/>
          <p:cNvGrpSpPr/>
          <p:nvPr/>
        </p:nvGrpSpPr>
        <p:grpSpPr>
          <a:xfrm>
            <a:off x="0" y="0"/>
            <a:ext cx="9144000" cy="6400800"/>
            <a:chOff x="0" y="0"/>
            <a:chExt cx="9144000" cy="6400800"/>
          </a:xfrm>
        </p:grpSpPr>
        <p:sp>
          <p:nvSpPr>
            <p:cNvPr id="47" name="Rectangle 12"/>
            <p:cNvSpPr/>
            <p:nvPr/>
          </p:nvSpPr>
          <p:spPr>
            <a:xfrm>
              <a:off x="1828800" y="4572000"/>
              <a:ext cx="6858000" cy="182880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10"/>
            <p:cNvGrpSpPr/>
            <p:nvPr/>
          </p:nvGrpSpPr>
          <p:grpSpPr>
            <a:xfrm>
              <a:off x="0" y="0"/>
              <a:ext cx="9144000" cy="6400800"/>
              <a:chOff x="0" y="0"/>
              <a:chExt cx="9144000" cy="6400800"/>
            </a:xfrm>
          </p:grpSpPr>
          <p:sp>
            <p:nvSpPr>
              <p:cNvPr id="49" name="Rectangle 15"/>
              <p:cNvSpPr/>
              <p:nvPr/>
            </p:nvSpPr>
            <p:spPr>
              <a:xfrm>
                <a:off x="18000" y="0"/>
                <a:ext cx="1821240" cy="4938120"/>
              </a:xfrm>
              <a:prstGeom prst="rect">
                <a:avLst/>
              </a:prstGeom>
              <a:solidFill>
                <a:srgbClr val="d4e33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Rectangle 1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522600"/>
                <a:ext cx="9144000" cy="28782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" name="Rectangle 14"/>
            <p:cNvSpPr/>
            <p:nvPr/>
          </p:nvSpPr>
          <p:spPr>
            <a:xfrm>
              <a:off x="0" y="4572000"/>
              <a:ext cx="18288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934320" y="6552720"/>
            <a:ext cx="1676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1891800" y="6552720"/>
            <a:ext cx="1676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4870080" y="655272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463C-2D5D-4FE0-8C34-032E54354420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4" name="Rectangle 12"/>
            <p:cNvSpPr/>
            <p:nvPr/>
          </p:nvSpPr>
          <p:spPr>
            <a:xfrm>
              <a:off x="0" y="0"/>
              <a:ext cx="1825200" cy="6858000"/>
            </a:xfrm>
            <a:prstGeom prst="rect">
              <a:avLst/>
            </a:prstGeom>
            <a:solidFill>
              <a:srgbClr val="d4e3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3"/>
            <p:cNvSpPr/>
            <p:nvPr/>
          </p:nvSpPr>
          <p:spPr>
            <a:xfrm>
              <a:off x="0" y="2514600"/>
              <a:ext cx="1825200" cy="1828800"/>
            </a:xfrm>
            <a:prstGeom prst="rect">
              <a:avLst/>
            </a:prstGeom>
            <a:solidFill>
              <a:srgbClr val="769f1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6" name="Rectangle 14" descr=""/>
            <p:cNvPicPr/>
            <p:nvPr/>
          </p:nvPicPr>
          <p:blipFill>
            <a:blip r:embed="rId2"/>
            <a:stretch/>
          </p:blipFill>
          <p:spPr>
            <a:xfrm>
              <a:off x="1806840" y="2511360"/>
              <a:ext cx="7337160" cy="3730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93108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1892160" y="6555960"/>
            <a:ext cx="16732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4866840" y="655596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41E-0E3B-4803-9FE5-1417B25CA086}" type="slidenum"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10"/>
          <p:cNvGrpSpPr/>
          <p:nvPr/>
        </p:nvGrpSpPr>
        <p:grpSpPr>
          <a:xfrm>
            <a:off x="0" y="0"/>
            <a:ext cx="9144000" cy="1676520"/>
            <a:chOff x="0" y="0"/>
            <a:chExt cx="9144000" cy="1676520"/>
          </a:xfrm>
        </p:grpSpPr>
        <p:pic>
          <p:nvPicPr>
            <p:cNvPr id="139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0" name="Rectangle 13"/>
            <p:cNvSpPr/>
            <p:nvPr/>
          </p:nvSpPr>
          <p:spPr>
            <a:xfrm>
              <a:off x="18000" y="2880"/>
              <a:ext cx="1821240" cy="82044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"/>
            <p:cNvSpPr/>
            <p:nvPr/>
          </p:nvSpPr>
          <p:spPr>
            <a:xfrm>
              <a:off x="511560" y="208080"/>
              <a:ext cx="83484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dt" idx="10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ftr" idx="11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sldNum" idx="12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A956-B366-4C8D-8582-117ECD975604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9"/>
          <p:cNvGrpSpPr/>
          <p:nvPr/>
        </p:nvGrpSpPr>
        <p:grpSpPr>
          <a:xfrm>
            <a:off x="0" y="0"/>
            <a:ext cx="1828800" cy="1676520"/>
            <a:chOff x="0" y="0"/>
            <a:chExt cx="1828800" cy="1676520"/>
          </a:xfrm>
        </p:grpSpPr>
        <p:pic>
          <p:nvPicPr>
            <p:cNvPr id="184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82880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Oval 13"/>
            <p:cNvSpPr/>
            <p:nvPr/>
          </p:nvSpPr>
          <p:spPr>
            <a:xfrm>
              <a:off x="503280" y="208080"/>
              <a:ext cx="821880" cy="41004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5335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6339D-0B03-452D-B574-B88ED4180057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7" name="Group 10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8" name="Rectangle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342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" name="Rectangle 13"/>
            <p:cNvSpPr/>
            <p:nvPr/>
          </p:nvSpPr>
          <p:spPr>
            <a:xfrm>
              <a:off x="7314120" y="5760"/>
              <a:ext cx="1823760" cy="6852240"/>
            </a:xfrm>
            <a:prstGeom prst="rect">
              <a:avLst/>
            </a:prstGeom>
            <a:solidFill>
              <a:srgbClr val="8fcb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4"/>
            <p:cNvSpPr/>
            <p:nvPr/>
          </p:nvSpPr>
          <p:spPr>
            <a:xfrm>
              <a:off x="7314120" y="5760"/>
              <a:ext cx="1823760" cy="1674720"/>
            </a:xfrm>
            <a:prstGeom prst="rect">
              <a:avLst/>
            </a:prstGeom>
            <a:solidFill>
              <a:srgbClr val="769f1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Oval 15"/>
            <p:cNvSpPr/>
            <p:nvPr/>
          </p:nvSpPr>
          <p:spPr>
            <a:xfrm>
              <a:off x="7808040" y="424800"/>
              <a:ext cx="835920" cy="837360"/>
            </a:xfrm>
            <a:prstGeom prst="ellipse">
              <a:avLst/>
            </a:prstGeom>
            <a:solidFill>
              <a:srgbClr val="8fcb17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1800"/>
              </a:spcBef>
              <a:buClr>
                <a:srgbClr val="769f11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371600" indent="-457200">
              <a:spcBef>
                <a:spcPts val="1800"/>
              </a:spcBef>
              <a:buClr>
                <a:srgbClr val="d4e336"/>
              </a:buClr>
              <a:buSzPct val="8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457200">
              <a:spcBef>
                <a:spcPts val="1800"/>
              </a:spcBef>
              <a:buClr>
                <a:srgbClr val="0c8228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2286000" indent="-457200">
              <a:spcBef>
                <a:spcPts val="1800"/>
              </a:spcBef>
              <a:buClr>
                <a:srgbClr val="c0eda8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2286000" indent="-457200">
              <a:spcBef>
                <a:spcPts val="1800"/>
              </a:spcBef>
              <a:buClr>
                <a:srgbClr val="000000"/>
              </a:buClr>
              <a:buSzPct val="80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552720" y="635112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rebuchet MS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24382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7848720" y="533160"/>
            <a:ext cx="7617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5227E-5D73-4C5C-A23D-C94E109F1CB1}" type="slidenum">
              <a:rPr b="0" lang="en-US" sz="16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Subtitle 2" descr=""/>
          <p:cNvPicPr/>
          <p:nvPr/>
        </p:nvPicPr>
        <p:blipFill>
          <a:blip r:embed="rId1"/>
          <a:stretch/>
        </p:blipFill>
        <p:spPr>
          <a:xfrm>
            <a:off x="1841400" y="5834160"/>
            <a:ext cx="6637320" cy="50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904760" y="4648320"/>
            <a:ext cx="6553080" cy="1218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rebuchet MS"/>
              </a:rPr>
              <a:t>EXPLORATION STATIONS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75" name="Picture 3" descr="C:\Users\Kevin Burgess\AppData\Local\Microsoft\Windows\Temporary Internet Files\Content.IE5\TF5EXL39\MP900409595[1].jpg"/>
          <p:cNvPicPr/>
          <p:nvPr/>
        </p:nvPicPr>
        <p:blipFill>
          <a:blip r:embed="rId2"/>
          <a:stretch/>
        </p:blipFill>
        <p:spPr>
          <a:xfrm>
            <a:off x="3581280" y="152280"/>
            <a:ext cx="2895840" cy="43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APER SHAP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shape and record its letter in the box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stimate how many cubes you think it will take to fill the shap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estimate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ll in the shape with cub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unt the number of cubes and write it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oup the counters into groups of tens and singles and record your tens and sing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8" name="Picture 2" descr="C:\Users\Kevin Burgess\AppData\Local\Microsoft\Windows\Temporary Internet Files\Content.IE5\0E22Y26K\MC910227044[1].png"/>
          <p:cNvPicPr/>
          <p:nvPr/>
        </p:nvPicPr>
        <p:blipFill>
          <a:blip r:embed="rId1"/>
          <a:stretch/>
        </p:blipFill>
        <p:spPr>
          <a:xfrm>
            <a:off x="1981080" y="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209320" y="34286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PAPER SHAP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0" name="Picture 2" descr="C:\Users\Kevin Burgess\AppData\Local\Microsoft\Windows\Temporary Internet Files\Content.IE5\0E22Y26K\MC910227044[1].png"/>
          <p:cNvPicPr/>
          <p:nvPr/>
        </p:nvPicPr>
        <p:blipFill>
          <a:blip r:embed="rId1"/>
          <a:stretch/>
        </p:blipFill>
        <p:spPr>
          <a:xfrm>
            <a:off x="1981080" y="0"/>
            <a:ext cx="21337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YARN SHAP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long piece of string and record the number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m the string into a closed sh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tens and ones it will take to fill in the shap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to fill the shap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to tens and singles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2" descr="C:\Users\Kevin Burgess\AppData\Local\Microsoft\Windows\Temporary Internet Files\Content.IE5\NYPVPCIT\MP900427836[1].jpg"/>
          <p:cNvPicPr/>
          <p:nvPr/>
        </p:nvPicPr>
        <p:blipFill>
          <a:blip r:embed="rId1"/>
          <a:stretch/>
        </p:blipFill>
        <p:spPr>
          <a:xfrm>
            <a:off x="1905120" y="0"/>
            <a:ext cx="13111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362320" y="358092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YARN SHAP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05" name="Picture 2" descr="C:\Users\Kevin Burgess\AppData\Local\Microsoft\Windows\Temporary Internet Files\Content.IE5\NYPVPCIT\MP900427836[1].jpg"/>
          <p:cNvPicPr/>
          <p:nvPr/>
        </p:nvPicPr>
        <p:blipFill>
          <a:blip r:embed="rId1"/>
          <a:stretch/>
        </p:blipFill>
        <p:spPr>
          <a:xfrm>
            <a:off x="1905120" y="0"/>
            <a:ext cx="1311120" cy="167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EAN COLLAG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bean collage. How many beans do you think are on the pictur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groups of 10 do you think there might be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yarn to capture groups of ten bean.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groups of ten and leftovers on the recording shee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beans are on the collage? Recor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nother bean collage and repeat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8" name="Picture 2" descr="C:\Users\Kevin Burgess\AppData\Local\Microsoft\Windows\Temporary Internet Files\Content.IE5\4BYIU1YL\MP900432981[1].jpg"/>
          <p:cNvPicPr/>
          <p:nvPr/>
        </p:nvPicPr>
        <p:blipFill>
          <a:blip r:embed="rId1"/>
          <a:stretch/>
        </p:blipFill>
        <p:spPr>
          <a:xfrm>
            <a:off x="1905120" y="0"/>
            <a:ext cx="1119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361960" y="342864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BEAN COLLAGE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0" name="Picture 2" descr="C:\Users\Kevin Burgess\AppData\Local\Microsoft\Windows\Temporary Internet Files\Content.IE5\4BYIU1YL\MP900432981[1].jpg"/>
          <p:cNvPicPr/>
          <p:nvPr/>
        </p:nvPicPr>
        <p:blipFill>
          <a:blip r:embed="rId1"/>
          <a:stretch/>
        </p:blipFill>
        <p:spPr>
          <a:xfrm>
            <a:off x="1905120" y="0"/>
            <a:ext cx="1119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ITTEN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race your hand with all of the fingers together and the thumb ou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or tiles it will take to fill in the “mitten”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and fill in the mitten, count the number of cubes or tiles and record the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 as many tens as possibl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3" name="Picture 2" descr="C:\Users\Kevin Burgess\AppData\Local\Microsoft\Windows\Temporary Internet Files\Content.IE5\ZC9ZEG4L\MC900094737[1].wmf"/>
          <p:cNvPicPr/>
          <p:nvPr/>
        </p:nvPicPr>
        <p:blipFill>
          <a:blip r:embed="rId1"/>
          <a:stretch/>
        </p:blipFill>
        <p:spPr>
          <a:xfrm>
            <a:off x="1828800" y="0"/>
            <a:ext cx="16146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676160" y="3276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MITTENS &amp; GLOV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15" name="Picture 2" descr="C:\Users\Kevin Burgess\AppData\Local\Microsoft\Windows\Temporary Internet Files\Content.IE5\ZC9ZEG4L\MC900094737[1].wmf"/>
          <p:cNvPicPr/>
          <p:nvPr/>
        </p:nvPicPr>
        <p:blipFill>
          <a:blip r:embed="rId1"/>
          <a:stretch/>
        </p:blipFill>
        <p:spPr>
          <a:xfrm>
            <a:off x="152280" y="1752480"/>
            <a:ext cx="1614600" cy="167652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2" descr="C:\Users\Kevin Burgess\AppData\Local\Microsoft\Windows\Temporary Internet Files\Content.IE5\KV7Y2FF1\MC900200237[1].wmf"/>
          <p:cNvPicPr/>
          <p:nvPr/>
        </p:nvPicPr>
        <p:blipFill>
          <a:blip r:embed="rId2"/>
          <a:stretch/>
        </p:blipFill>
        <p:spPr>
          <a:xfrm rot="10122000">
            <a:off x="2013840" y="100080"/>
            <a:ext cx="18190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GLOV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a crayon to trace your hand with the thumb and fingers spread apar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or tiles it will take to fill in the “glove”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Use cubes or tiles and fill the glove, count the number of cubes and record the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ounters in as many tens as possible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9" name="Picture 2" descr="C:\Users\Kevin Burgess\AppData\Local\Microsoft\Windows\Temporary Internet Files\Content.IE5\KV7Y2FF1\MC900200237[1].wmf"/>
          <p:cNvPicPr/>
          <p:nvPr/>
        </p:nvPicPr>
        <p:blipFill>
          <a:blip r:embed="rId1"/>
          <a:stretch/>
        </p:blipFill>
        <p:spPr>
          <a:xfrm>
            <a:off x="1905120" y="152280"/>
            <a:ext cx="1819080" cy="14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676160" y="32763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ON AND OFF 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321" name="Picture 2" descr="C:\Documents and Settings\afloyd\Local Settings\Temporary Internet Files\Content.IE5\0ZTJUMNT\MC900390936[1].wmf"/>
          <p:cNvPicPr/>
          <p:nvPr/>
        </p:nvPicPr>
        <p:blipFill>
          <a:blip r:embed="rId1"/>
          <a:stretch/>
        </p:blipFill>
        <p:spPr>
          <a:xfrm>
            <a:off x="1981080" y="76320"/>
            <a:ext cx="21337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AG O’ THING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b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ow many do you think you have? Do you think you have enough to fit in a ten frame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ill you have some leftovers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Use the ten frame and see how many items you hav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cord your finding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oose a different ba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 you think this bag has more/less than your other bag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8" name="Picture 4" descr="C:\Users\Kevin Burgess\AppData\Local\Microsoft\Windows\Temporary Internet Files\Content.IE5\NYPVPCIT\MP900402393[1].jpg"/>
          <p:cNvPicPr/>
          <p:nvPr/>
        </p:nvPicPr>
        <p:blipFill>
          <a:blip r:embed="rId1"/>
          <a:stretch/>
        </p:blipFill>
        <p:spPr>
          <a:xfrm>
            <a:off x="1828800" y="0"/>
            <a:ext cx="251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ON AND OFF GAME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438280" y="2285640"/>
            <a:ext cx="655344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op 7 counters over a piece of pape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w many counters land on the paper?  How many counters land off the pape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cord your work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eat five time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y using 10 count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4" name="Picture 2" descr="C:\Documents and Settings\afloyd\Local Settings\Temporary Internet Files\Content.IE5\0ZTJUMNT\MC900390936[1].wmf"/>
          <p:cNvPicPr/>
          <p:nvPr/>
        </p:nvPicPr>
        <p:blipFill>
          <a:blip r:embed="rId1"/>
          <a:stretch/>
        </p:blipFill>
        <p:spPr>
          <a:xfrm>
            <a:off x="1981080" y="76320"/>
            <a:ext cx="2133720" cy="15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133720" y="2361960"/>
            <a:ext cx="6248160" cy="38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800" spc="-1" strike="noStrike">
                <a:solidFill>
                  <a:srgbClr val="000000"/>
                </a:solidFill>
                <a:latin typeface="Trebuchet MS"/>
              </a:rPr>
              <a:t>BAG O’ THING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0" name="Picture 4" descr="C:\Users\Kevin Burgess\AppData\Local\Microsoft\Windows\Temporary Internet Files\Content.IE5\NYPVPCIT\MP900402393[1].jpg"/>
          <p:cNvPicPr/>
          <p:nvPr/>
        </p:nvPicPr>
        <p:blipFill>
          <a:blip r:embed="rId1"/>
          <a:stretch/>
        </p:blipFill>
        <p:spPr>
          <a:xfrm>
            <a:off x="1828800" y="0"/>
            <a:ext cx="251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BUILDING STACK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2437920" y="2133720"/>
            <a:ext cx="624852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 and your partner share a board, a die and cube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tner A rolls the di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 counts out that many cubes, connects them, and stands the tower up tall on the first square of his side of the boa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ayer B rolls the die, counts cubes and makes a tower on his si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ntinue until each square has a tower on i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ke an estimate – How many cubes do you have in all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cord, then count and record the number word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415800" indent="-4158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roup your cubes into tens and ones and recor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Picture 2" descr="C:\Users\Kevin Burgess\AppData\Local\Microsoft\Windows\Temporary Internet Files\Content.IE5\MH2VYHOL\MC900438451[1].jpg"/>
          <p:cNvPicPr/>
          <p:nvPr/>
        </p:nvPicPr>
        <p:blipFill>
          <a:blip r:embed="rId1"/>
          <a:stretch/>
        </p:blipFill>
        <p:spPr>
          <a:xfrm>
            <a:off x="1828800" y="0"/>
            <a:ext cx="24382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133720" y="342864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BUILDING STACK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85" name="Picture 2" descr="C:\Users\Kevin Burgess\AppData\Local\Microsoft\Windows\Temporary Internet Files\Content.IE5\MH2VYHOL\MC900438451[1].jpg"/>
          <p:cNvPicPr/>
          <p:nvPr/>
        </p:nvPicPr>
        <p:blipFill>
          <a:blip r:embed="rId1"/>
          <a:stretch/>
        </p:blipFill>
        <p:spPr>
          <a:xfrm>
            <a:off x="1828800" y="0"/>
            <a:ext cx="2438280" cy="16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LOTS OF LINES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line card and record its letter in the box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the number of cubes it will take to fit along that line and record that number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ace the cubes along the line until the line is covere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 the number of cubes and record the number and w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90000"/>
              </a:lnSpc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Group the cubes into tens and ones and rec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6" descr="lines.jpg"/>
          <p:cNvPicPr/>
          <p:nvPr/>
        </p:nvPicPr>
        <p:blipFill>
          <a:blip r:embed="rId1"/>
          <a:stretch/>
        </p:blipFill>
        <p:spPr>
          <a:xfrm>
            <a:off x="1828800" y="0"/>
            <a:ext cx="2338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285640" y="358092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LOTS OF LINES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0" name="Picture 6" descr="lines.jpg"/>
          <p:cNvPicPr/>
          <p:nvPr/>
        </p:nvPicPr>
        <p:blipFill>
          <a:blip r:embed="rId1"/>
          <a:stretch/>
        </p:blipFill>
        <p:spPr>
          <a:xfrm>
            <a:off x="1828800" y="0"/>
            <a:ext cx="233856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2437920" y="228240"/>
            <a:ext cx="62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EASURE IT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2437920" y="2285640"/>
            <a:ext cx="624852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oose a piece of str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stimate how many tiles will it take to measure the length of the string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Lay tiles along the string to determine the length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unt and record the number word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n, group the tiles by tens and leftover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1800"/>
              </a:spcBef>
              <a:buClr>
                <a:srgbClr val="8fcb17"/>
              </a:buClr>
              <a:buSzPct val="8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rite your findings on the recording shee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C:\Users\Kevin Burgess\AppData\Local\Microsoft\Windows\Temporary Internet Files\Content.IE5\NYPVPCIT\MP900175500[1].jpg"/>
          <p:cNvPicPr/>
          <p:nvPr/>
        </p:nvPicPr>
        <p:blipFill>
          <a:blip r:embed="rId1"/>
          <a:stretch/>
        </p:blipFill>
        <p:spPr>
          <a:xfrm>
            <a:off x="2133720" y="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28800" y="350496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000000"/>
                </a:solidFill>
                <a:latin typeface="Trebuchet MS"/>
              </a:rPr>
              <a:t>MEASURE IT</a:t>
            </a:r>
            <a:endParaRPr b="0" lang="en-US" sz="13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95" name="Picture 2" descr="C:\Users\Kevin Burgess\AppData\Local\Microsoft\Windows\Temporary Internet Files\Content.IE5\NYPVPCIT\MP900175500[1].jpg"/>
          <p:cNvPicPr/>
          <p:nvPr/>
        </p:nvPicPr>
        <p:blipFill>
          <a:blip r:embed="rId1"/>
          <a:stretch/>
        </p:blipFill>
        <p:spPr>
          <a:xfrm>
            <a:off x="2133720" y="0"/>
            <a:ext cx="2438280" cy="16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4T02:37:45Z</dcterms:created>
  <dc:creator>Kevin Burgess</dc:creator>
  <dc:description/>
  <dc:language>en-US</dc:language>
  <cp:lastModifiedBy>Ana Flyod</cp:lastModifiedBy>
  <dcterms:modified xsi:type="dcterms:W3CDTF">2012-05-17T21:24:02Z</dcterms:modified>
  <cp:revision>21</cp:revision>
  <dc:subject/>
  <dc:title>Mittens and Gloves</dc:title>
</cp:coreProperties>
</file>